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ct" ContentType="image/x-pict"/>
  <Override PartName="/ppt/media/image5.pct" ContentType="image/x-pict"/>
  <Override PartName="/ppt/media/image6.png" ContentType="image/png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jpeg" ContentType="image/jpeg"/>
  <Override PartName="/ppt/media/image10.gif" ContentType="image/gif"/>
  <Override PartName="/ppt/media/image1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72C9-C90E-4570-8734-7EFFBE8A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69343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4291560"/>
            <a:ext cx="69343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4BD1-F95B-41C0-98F3-0A482209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5680" y="228564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429156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5680" y="429156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8F93-ECDE-4D9D-AB06-456494CF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22327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7160" y="2285640"/>
            <a:ext cx="22327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1840" y="2285640"/>
            <a:ext cx="22327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4291560"/>
            <a:ext cx="22327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7160" y="4291560"/>
            <a:ext cx="22327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1840" y="4291560"/>
            <a:ext cx="22327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44BB-13D5-42B6-A3C6-09BE962A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D88F-4F29-43F0-9B10-31E04C43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2285640"/>
            <a:ext cx="69343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4CD5-7DAF-4380-8759-F190B808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69343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0301-3B26-4C51-A123-35E8E832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33836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5680" y="2285640"/>
            <a:ext cx="33836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026F-0DE9-4A6F-A82B-A1C39AD6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2C24-DA91-4C49-AFDC-FA267D62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1532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CEE4-2BF4-446A-8C69-5A5AB438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680" y="2285640"/>
            <a:ext cx="33836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429156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2C29-A21F-4A36-8C87-C5E3C0F7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2285640"/>
            <a:ext cx="69343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61E3-0503-4D3E-920F-76BCF331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33836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680" y="228564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5680" y="429156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E818-5D6C-4240-A140-97D69CF3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5680" y="228564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4291560"/>
            <a:ext cx="69343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1252-3182-46D9-B93A-E9701BC1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69343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4291560"/>
            <a:ext cx="69343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7813-B75F-4566-876C-9BC3C49E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5680" y="228564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429156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5680" y="429156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A1B2-1300-44BF-BFB4-DE08497F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22327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7160" y="2285640"/>
            <a:ext cx="22327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41840" y="2285640"/>
            <a:ext cx="22327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4291560"/>
            <a:ext cx="22327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7160" y="4291560"/>
            <a:ext cx="22327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41840" y="4291560"/>
            <a:ext cx="22327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7E24-B63F-4970-982D-7D49A31F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69343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DCCC-CB10-4CB7-A14E-7DDD25DF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33836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5680" y="2285640"/>
            <a:ext cx="33836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6B2B-B55C-4EA9-9CE7-AA340EBE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3C94-A5E5-419E-962C-F83F789E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1532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A202-79EF-4CCF-9B3D-8E763C2D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5680" y="2285640"/>
            <a:ext cx="33836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429156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5416-6D4F-47C1-AFF4-55F8CAC2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33836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5680" y="228564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5680" y="429156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DB4A-D20C-4424-8605-BFF926F5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5680" y="2285640"/>
            <a:ext cx="33836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4291560"/>
            <a:ext cx="69343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A081-847E-4F49-BA4E-25FEA40D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2285640"/>
            <a:ext cx="69343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cc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cc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2AFC-FC5C-4395-BFA3-1C2D30DB6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388584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52A9-E67A-4EBA-B683-D33517AFE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cc66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cc66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cc6600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cc66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cc66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cc66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cc66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cc66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pct"/><Relationship Id="rId1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388584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Fraction Addition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09320" y="4800600"/>
            <a:ext cx="6324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11320" y="665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Addition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52480" y="2286000"/>
            <a:ext cx="3810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Find a common denominator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Multiply numerator and denominator by the same number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Add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Simplify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416560" y="2514600"/>
          <a:ext cx="907920" cy="221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6560" y="2514600"/>
                    <a:ext cx="907920" cy="22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Addition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52480" y="2286000"/>
            <a:ext cx="3810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Find a common denominator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Multiply numerator and denominator by the same number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Add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Simplify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416560" y="2438280"/>
          <a:ext cx="907920" cy="330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6560" y="2438280"/>
                    <a:ext cx="907920" cy="33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y one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3391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138400" y="1981080"/>
          <a:ext cx="973080" cy="358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8400" y="1981080"/>
                    <a:ext cx="9730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y some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3391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cc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362320" y="3200400"/>
                <a:ext cx="663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209680" y="4419720"/>
                <a:ext cx="11430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Apples and Oranges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120" y="2286000"/>
            <a:ext cx="6782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imes New Roman"/>
              </a:rPr>
              <a:t>The things you add have to be the same size</a:t>
            </a:r>
            <a:endParaRPr b="0" lang="en-US" sz="20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00400" y="2590920"/>
          <a:ext cx="21049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2590920"/>
                    <a:ext cx="2104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523880" y="2590920"/>
          <a:ext cx="2105280" cy="1828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2590920"/>
                    <a:ext cx="21052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934320" y="2286000"/>
          <a:ext cx="1752480" cy="171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34320" y="2286000"/>
                    <a:ext cx="175248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447920" y="4114800"/>
          <a:ext cx="2103480" cy="182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47920" y="4114800"/>
                    <a:ext cx="21034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276720" y="4114800"/>
          <a:ext cx="2104920" cy="1828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76720" y="4114800"/>
                    <a:ext cx="2104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638680" y="3809880"/>
                <a:ext cx="175572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800" y="3200400"/>
            <a:ext cx="6324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mmon Denominator</a:t>
            </a:r>
            <a:endParaRPr b="1" lang="en-US" sz="4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Common Denominator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69343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A number all original denominators divide into evenly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12 is a common denominator because 3 and 4 both divide 12 evenly.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657600" y="3124080"/>
                <a:ext cx="187308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Least Common Denominator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52120" y="2286000"/>
            <a:ext cx="6782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To find the least common denominator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Write the times table list for each denominator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The smallest number that is in all rows is the least common denominator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352680" y="1905120"/>
            <a:ext cx="228600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Least Common Denominator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52480" y="228600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To find the least common denominator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Write the times table list for each denominator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The smallest number that is in all rows is the least common denominator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3962520"/>
                <a:ext cx="6019920" cy="25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bar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y One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52480" y="2285640"/>
            <a:ext cx="69343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common denominator for these fractions</a:t>
            </a: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 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Addition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52480" y="2286000"/>
            <a:ext cx="3810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Find a common denominator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Multiply numerator and denominator by the same number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Add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Simplify</a:t>
            </a:r>
            <a:endParaRPr b="0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408640" y="2438280"/>
                <a:ext cx="763560" cy="24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bar>
                      </m:e>
                    </m:eqArr>
                    <m:bar>
                      <m:barPr>
                        <m:pos m:val="bot"/>
                      </m:barPr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22:04:34Z</dcterms:created>
  <dc:creator>eclipse</dc:creator>
  <dc:description/>
  <dc:language>en-US</dc:language>
  <cp:lastModifiedBy>Parkland High School</cp:lastModifiedBy>
  <dcterms:modified xsi:type="dcterms:W3CDTF">2010-11-08T13:33:08Z</dcterms:modified>
  <cp:revision>30</cp:revision>
  <dc:subject/>
  <dc:title>Slide 1</dc:title>
</cp:coreProperties>
</file>